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483-8555-4F27-BFBE-C9E2BB56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23D-2DAE-41E2-804A-A7FFD4D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8E8-1B97-49BB-AF77-E71FA7DF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BFA-1C6A-4E59-80C6-79E6B04D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FF2-7208-41CB-AA44-875D8190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A1C-E465-4002-AF9A-FF80AFBD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237-3B01-433B-9DE7-AAE86CE3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832-7A6D-4615-89EC-605CF44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2A4-7751-4FE7-8A61-33CD045A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8F0-05C6-4315-894D-F2B097F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81F-C36E-4F6A-AC1C-6F0F37D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AA8-66CC-4CBA-8DDC-A59FD73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A2FF-8C3C-43C9-8587-6EA4DE09B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900000" y="836640"/>
            <a:ext cx="7775640" cy="2736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ль план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само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циального педаг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2"/>
          </p:cNvPr>
          <p:cNvSpPr/>
          <p:nvPr/>
        </p:nvSpPr>
        <p:spPr>
          <a:xfrm>
            <a:off x="3132000" y="5877000"/>
            <a:ext cx="3024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. Павл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712040" y="4320000"/>
            <a:ext cx="419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дготовила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ОУ СОШ № 10 ст.Павл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еменько С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деятельности, составляющие процесс самообразования социального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изучение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систематический просмотр определенных телепере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конкретных педагогических периодических из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методической и педагогическ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семинаров, конференций, занятий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дискуссии, совещания, обмен опытом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систематическое прохождение курсов повышения квалиф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роведение открытых занятий для анализа со стороны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выставок и экскур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общение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ведение здорового образа жизни, занятие спортом, физически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5f9e7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циальный педагог определяет для себя тему самообразовательной деятельности, затем ставит цель и задачи самообразования, и в письменном виде составляет индивидуальный план – что и в какие сроки необходимо освоить, выполнить,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исать индивидуальные планы самообразования можно разными вариа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MCj03013080000[1]"/>
          <p:cNvPicPr/>
          <p:nvPr/>
        </p:nvPicPr>
        <p:blipFill>
          <a:blip r:embed="rId1"/>
          <a:stretch/>
        </p:blipFill>
        <p:spPr>
          <a:xfrm>
            <a:off x="7524720" y="4869000"/>
            <a:ext cx="12844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работка индивидуального плана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анализ деятельности, из которой вытекает проблема, стоящая перед социальным педагогом; либо желание изучить новые направления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бор и обоснование индивидуальной темы самообразования, её связь с целями и задачами социальной педагогики, планируем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полагаемый период работы над 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вопросы, намечаемые для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тература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й опыт предполагается из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.Творческое сотрудничество по теме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. Практические выходы, в т.ч. доклады, мастер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. Изучение передов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. Когда и где выступал с обобщением собств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. Выводы по окончани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9e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е «самообраз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хнология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рианты написания индивидуального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b"/>
            </a:gs>
            <a:gs pos="50000">
              <a:srgbClr val="bbe0e3"/>
            </a:gs>
            <a:gs pos="100000">
              <a:srgbClr val="f6fb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Сам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повышения педагогического мастерства, многокомпонентная личностно, профессионально и общественно значимая самостоятельная познавательная деятельность социального педагога, включающая в себя общеобразовательное, психолого-педагогическое и методическое сам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сс сознательной самостоятельной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имул как для повышения профессионального мастерства, так и для развития 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олжно сводится к бумаготворчеству, оформлению красочных стендов и па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ea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даптивный - характерен для начинающего социального педагога. Его  целью является адаптация к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блемно-поисковый -качественно новый этап самообразо-вательной деятельности. На этом этапе могут быть найдены эффективные приемы работы, оригина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новационный - предполагает высокую степень развития соответствующих умений. На этом этапе социальный педагог создает социально-значимый продукт деятельности, обладающий практической новизной. Фактор полной свободы выбора, полной самостоятельности накладывает на самообразование своеобразный отпечаток. Этот выбор не каждому дается, он требует не только постановки цели, но и труда, настойчивости в ее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самообразования 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01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ширение общепедагогических и психологичес-ких знаний с целью совершенствования приёмов и методов работы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глубление знаний нормативно-правовых актов, а также педагогического мастерства по разным метод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владение достижениями социально-педагогичес-кой науки, передовой педагогической прак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вышение общекультурного уровня 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ём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бязательств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добровольное задание самому себе осознанных целей и задач самосовершенствования, решение сформировать у себя те или и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тчет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ретроспективный взгляд на пройденный за определенное время пу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контро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систематическая фиксация своего состояния и поведения с целью предотвращения нежелательных последств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осмысление собственной деятельности и поведен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выявление причин успехов и неуда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ступая к работе по самообразованию, социальный педагог должен иметь данные анализа своей работы за определенный период, объективную их оценку и рекомендации коллег по улучшению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 социального педагога для перспективного планирования само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разовательно-воспитатель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беспечение целенаправленного педагогического влияния на поведение и деятельность детей и взрослых; содействие всех социальных институтов, учреждений физической культуры и спорта, средства масс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гностиче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постановка “социального диагноза”, для чего проводится изучение личностных особенностей и социально-бытовых условий жизни детей, семьи, социального окружения; выявление позитивных и негативных влияний и различного рода проб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тор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рганизация общественно-ценной деятельности детей и взрослых, педагогов и волонтеров в решении задач социально-педагогической помощи, поддержки воспитания и развития реализации планов и програ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гностическая и экспер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участие в программировании, прогнозировании, проектировании процесса социального развития конкретного микросоциума, в деятельности различных институтов по социальной работ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ционно-коммуникативн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включение добровольных помощников, населения микрорайона в социально-педагогическую работу. Организация совместного труда и отдыха, налаживание взаимодействия между различными институтами в их работе с детьми, с семьями.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хранно-защи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использование имеющегося арсенала правовых норм для защиты прав и интересов личности. Содействие применению мер государственного принуждения и реализации юридической ответственности в отношении лиц, допускающих прямые или косвенные противоправные воздействия на подопечных социального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редническ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осуществление связи в интересах ребенка между семьей, образовательным учреждением и ближайшим окружением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ли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Diagram 4"/>
          <p:cNvGrpSpPr/>
          <p:nvPr/>
        </p:nvGrpSpPr>
        <p:grpSpPr>
          <a:xfrm>
            <a:off x="2507400" y="1268280"/>
            <a:ext cx="4586040" cy="4856760"/>
            <a:chOff x="2507400" y="1268280"/>
            <a:chExt cx="4586040" cy="4856760"/>
          </a:xfrm>
        </p:grpSpPr>
        <p:sp>
          <p:nvSpPr>
            <p:cNvPr id="58" name="_s1028"/>
            <p:cNvSpPr/>
            <p:nvPr/>
          </p:nvSpPr>
          <p:spPr>
            <a:xfrm flipH="1" flipV="1">
              <a:off x="398988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010680" y="180144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вет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 flipH="1">
              <a:off x="365400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2507400" y="3089880"/>
              <a:ext cx="114624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спе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 flipH="1">
              <a:off x="398988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3011400" y="437832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ру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4800600" y="4302720"/>
              <a:ext cx="0" cy="6076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4228200" y="4911120"/>
              <a:ext cx="1145880" cy="1213920"/>
            </a:xfrm>
            <a:prstGeom prst="ellipse">
              <a:avLst/>
            </a:prstGeom>
            <a:solidFill>
              <a:srgbClr val="bd8949">
                <a:alpha val="50000"/>
              </a:srgbClr>
            </a:solidFill>
            <a:ln w="57240">
              <a:solidFill>
                <a:srgbClr val="bd8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щест-вен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520524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5443920" y="4377240"/>
              <a:ext cx="1146240" cy="121392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-суль-та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537264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5947560" y="308952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вок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0"/>
            <p:cNvSpPr/>
            <p:nvPr/>
          </p:nvSpPr>
          <p:spPr>
            <a:xfrm flipV="1">
              <a:off x="520524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5443200" y="1801440"/>
              <a:ext cx="114588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ред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2"/>
            <p:cNvSpPr/>
            <p:nvPr/>
          </p:nvSpPr>
          <p:spPr>
            <a:xfrm flipV="1">
              <a:off x="4800600" y="2481840"/>
              <a:ext cx="0" cy="60732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3"/>
            <p:cNvSpPr/>
            <p:nvPr/>
          </p:nvSpPr>
          <p:spPr>
            <a:xfrm>
              <a:off x="4227480" y="126828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мощ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4"/>
            <p:cNvSpPr/>
            <p:nvPr/>
          </p:nvSpPr>
          <p:spPr>
            <a:xfrm>
              <a:off x="4227480" y="3089880"/>
              <a:ext cx="1146240" cy="1213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оци-аль-ный педагог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054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5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7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8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84" name="_s2061"/>
            <p:cNvCxnSpPr>
              <a:stCxn id="85" idx="0"/>
              <a:endCxn id="86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62"/>
            <p:cNvCxnSpPr>
              <a:stCxn id="88" idx="0"/>
              <a:endCxn id="86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63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2064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6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67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00:30Z</dcterms:created>
  <dc:creator>Student</dc:creator>
  <dc:description/>
  <dc:language>en-US</dc:language>
  <cp:lastModifiedBy>evroset</cp:lastModifiedBy>
  <dcterms:modified xsi:type="dcterms:W3CDTF">2018-03-14T16:13:19Z</dcterms:modified>
  <cp:revision>26</cp:revision>
  <dc:subject/>
  <dc:title>Слайд 1</dc:title>
</cp:coreProperties>
</file>